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6546-076F-4457-971E-5BA86A549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5DC1-6B5E-4458-9B8A-BA75C773E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F4B-22FB-4B64-99B5-EB3E457A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E15-8FDB-4D66-A161-A6D7A678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2F6-BF32-45D4-A09B-7082656E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797-134C-429A-AD7A-F559EE26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EB9-1D37-415D-8ACB-D4F09962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9A8-4BCE-4DCB-81DD-1E5CE955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D9C-A5A9-4999-AE38-0673B1EE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CDC-CC42-45E3-A235-2ED2B0E4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EC3-DC5E-406F-B28C-0B0DAEA2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029-97B6-4B97-B074-15474B14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381-39D4-4DE2-8FDB-4EC58D0C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21B-24F8-4838-8BE6-B04E6993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6375-108F-4EEC-A8E5-C89E3B220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ors Physics 14 Sept 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: Significant figures and scientific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Please explain in your composition books how you can determine the number of significant figures in a numerical value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forget to date your pag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 Write any ten numbers, determine the count of significant figures, and write them in scientific notation. Please write a variety of different numbers (small- large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s for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pwhphys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graphical analysis activity.x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the file to a flash drive if you have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file in MS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scatter plot using the chart wizard (follow teacher guidance he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ors Physics 18 Sept 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676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data analysis activity in Exc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 to problem solving methodology and linear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# 3 In our first lab activity, we are going to be indirectly measuring the heights of trees. Research more about examples of indirect measurement, and report. All references should be clearly lis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determining significant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ll non-zero digits are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ll Sandwiched zeros are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Right most zeros with a decimal point are a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ight most zeros without a decimal point are NOT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Left most zeros are NOT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ay of writing numbers was developed as a short-hand notation for really big and really small numbers (many of which we need to use in this class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volves expressing a value as the product of two numbers. One number is between 1 and 10, the other number is 10 raised to som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notat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 a number in Sci Not - do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decimal point left or right until you have a value between 1 an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move the decimal to the right, the exponent of ten is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move the decimal to the left, the exponent of ten is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exponent is equal to the number of places 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notat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ave a number in scientific notation and want the arithmetic value, just multiply the two value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umber of significant figures and scientific notation for these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,987,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.00000405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.03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,90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ors Physics 15 Sept 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: Computers and graphical analysis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 Ques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sheets – We need the rest to do lab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 Think of something that could be analyzed by looking for a straight line relationship between two variables. Explain how you might go about collecting the data and setting up the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ors Physics 16 Sept 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 linear analysis and algebraic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– some homework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 tonight : use the relationships established in class to find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, and K temp when F = 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, and K temp when C = 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ors Physics 17 Sept 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 Analysis of Linear Relationships using MS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till owe a safety sheet please turn it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#2 – Analyze the differences between male and female height and weight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#1 – Find a mathematical relationship between F and K (show all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5:38:00Z</dcterms:created>
  <dc:creator>PA Department of Education</dc:creator>
  <dc:description/>
  <dc:language>en-US</dc:language>
  <cp:lastModifiedBy>sebastian interlandi</cp:lastModifiedBy>
  <dcterms:modified xsi:type="dcterms:W3CDTF">2009-09-18T12:00:56Z</dcterms:modified>
  <cp:revision>8</cp:revision>
  <dc:subject/>
  <dc:title>Honors Physics 14 Sept 09</dc:title>
</cp:coreProperties>
</file>